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9.wmf" ContentType="image/x-wmf"/>
  <Override PartName="/ppt/media/image15.wmf" ContentType="image/x-wmf"/>
  <Override PartName="/ppt/media/image13.wmf" ContentType="image/x-wmf"/>
  <Override PartName="/ppt/media/EXPLODE.WAV" ContentType="audio/x-wav"/>
  <Override PartName="/ppt/media/image12.wmf" ContentType="image/x-wmf"/>
  <Override PartName="/ppt/media/CASHREG.WAV" ContentType="audio/x-wav"/>
  <Override PartName="/ppt/media/image1.wmf" ContentType="image/x-wmf"/>
  <Override PartName="/ppt/media/image4.wmf" ContentType="image/x-wmf"/>
  <Override PartName="/ppt/media/PROJCTOR.WAV" ContentType="audio/x-wav"/>
  <Override PartName="/ppt/media/image22.wmf" ContentType="image/x-wmf"/>
  <Override PartName="/ppt/media/image5.wmf" ContentType="image/x-wmf"/>
  <Override PartName="/ppt/media/image11.wmf" ContentType="image/x-wmf"/>
  <Override PartName="/ppt/media/DRIVEBY.WAV" ContentType="audio/x-wav"/>
  <Override PartName="/ppt/media/image17.wmf" ContentType="image/x-wmf"/>
  <Override PartName="/ppt/media/APPLAUSE.WAV" ContentType="audio/x-wav"/>
  <Override PartName="/ppt/media/caralarmoff.wav" ContentType="audio/x-wav"/>
  <Override PartName="/ppt/media/image7.wmf" ContentType="image/x-wmf"/>
  <Override PartName="/ppt/media/image20.wmf" ContentType="image/x-wmf"/>
  <Override PartName="/ppt/media/jetflyby.wav" ContentType="audio/x-wav"/>
  <Override PartName="/ppt/media/CHIMES.WAV" ContentType="audio/x-wav"/>
  <Override PartName="/ppt/media/image18.wmf" ContentType="image/x-wmf"/>
  <Override PartName="/ppt/media/image21.wmf" ContentType="image/x-wmf"/>
  <Override PartName="/ppt/media/image23.wmf" ContentType="image/x-wmf"/>
  <Override PartName="/ppt/media/WHOOSH.WAV" ContentType="audio/x-wav"/>
  <Override PartName="/ppt/media/image16.wmf" ContentType="image/x-wmf"/>
  <Override PartName="/ppt/media/LASER.WAV" ContentType="audio/x-wav"/>
  <Override PartName="/ppt/media/image14.wmf" ContentType="image/x-wmf"/>
  <Override PartName="/ppt/media/image3.wmf" ContentType="image/x-wmf"/>
  <Override PartName="/ppt/media/image2.wmf" ContentType="image/x-wmf"/>
  <Override PartName="/ppt/media/image6.wmf" ContentType="image/x-wmf"/>
  <Override PartName="/ppt/media/image8.wmf" ContentType="image/x-wmf"/>
  <Override PartName="/ppt/media/caralarmon.wav" ContentType="audio/x-wav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BC1-8655-4A9A-8024-0D95FE9F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834-DFB6-4C2F-9CE4-76BDE201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E61-C5DA-4541-9CA9-ED054CA0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DAE-F96E-40C6-ABDB-25F4D45B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B2F-5E82-43E6-B174-D5D232DE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68F-D431-4220-9933-FC5A3366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790-A14E-482E-9361-6CFCA614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E83-0460-474B-BC3C-7144C6E5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0F8-2AFB-4615-9F95-73203E7A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641-980B-4671-B385-96F16F0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E46-51A4-4DD2-9A91-9D6E65A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59F-2859-4E79-8A61-F44C137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D082-73EC-4720-B3EC-017C68735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audio" Target="../media/jetflyby.wav"/><Relationship Id="rId10" Type="http://schemas.openxmlformats.org/officeDocument/2006/relationships/audio" Target="../media/CASHREG.WAV"/><Relationship Id="rId11" Type="http://schemas.openxmlformats.org/officeDocument/2006/relationships/audio" Target="../media/PROJCTOR.WAV"/><Relationship Id="rId12" Type="http://schemas.openxmlformats.org/officeDocument/2006/relationships/audio" Target="../media/DRIVEBY.WAV"/><Relationship Id="rId13" Type="http://schemas.openxmlformats.org/officeDocument/2006/relationships/audio" Target="../media/LASER.WAV"/><Relationship Id="rId14" Type="http://schemas.openxmlformats.org/officeDocument/2006/relationships/audio" Target="../media/WHOOSH.WAV"/><Relationship Id="rId15" Type="http://schemas.openxmlformats.org/officeDocument/2006/relationships/audio" Target="../media/EXPLODE.WAV"/><Relationship Id="rId16" Type="http://schemas.openxmlformats.org/officeDocument/2006/relationships/audio" Target="../media/EXPLOD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PROJCTOR.WAV"/><Relationship Id="rId20" Type="http://schemas.openxmlformats.org/officeDocument/2006/relationships/audio" Target="../media/DRIVEBY.WAV"/><Relationship Id="rId21" Type="http://schemas.openxmlformats.org/officeDocument/2006/relationships/audio" Target="../media/LASER.WAV"/><Relationship Id="rId22" Type="http://schemas.openxmlformats.org/officeDocument/2006/relationships/audio" Target="../media/WHOOSH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APPLAUSE.WAV"/><Relationship Id="rId26" Type="http://schemas.openxmlformats.org/officeDocument/2006/relationships/audio" Target="../media/APPLAUSE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audio" Target="../media/PROJCTOR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audio" Target="../media/caralarmon.wav"/><Relationship Id="rId14" Type="http://schemas.openxmlformats.org/officeDocument/2006/relationships/audio" Target="../media/CHIMES.WAV"/><Relationship Id="rId15" Type="http://schemas.openxmlformats.org/officeDocument/2006/relationships/audio" Target="../media/DRIVEBY.WAV"/><Relationship Id="rId16" Type="http://schemas.openxmlformats.org/officeDocument/2006/relationships/audio" Target="../media/LASER.WAV"/><Relationship Id="rId17" Type="http://schemas.openxmlformats.org/officeDocument/2006/relationships/audio" Target="../media/WHOOSH.WAV"/><Relationship Id="rId18" Type="http://schemas.openxmlformats.org/officeDocument/2006/relationships/audio" Target="../media/EXPLODE.WAV"/><Relationship Id="rId19" Type="http://schemas.openxmlformats.org/officeDocument/2006/relationships/audio" Target="../media/EXPLOD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audio" Target="../media/CASHREG.WAV"/><Relationship Id="rId20" Type="http://schemas.openxmlformats.org/officeDocument/2006/relationships/audio" Target="../media/caralarmoff.wav"/><Relationship Id="rId21" Type="http://schemas.openxmlformats.org/officeDocument/2006/relationships/audio" Target="../media/CHIMES.WAV"/><Relationship Id="rId22" Type="http://schemas.openxmlformats.org/officeDocument/2006/relationships/audio" Target="../media/LASER.WAV"/><Relationship Id="rId23" Type="http://schemas.openxmlformats.org/officeDocument/2006/relationships/audio" Target="../media/CHIMES.WAV"/><Relationship Id="rId24" Type="http://schemas.openxmlformats.org/officeDocument/2006/relationships/audio" Target="../media/LASER.WAV"/><Relationship Id="rId25" Type="http://schemas.openxmlformats.org/officeDocument/2006/relationships/audio" Target="../media/caralarmoff.wav"/><Relationship Id="rId26" Type="http://schemas.openxmlformats.org/officeDocument/2006/relationships/audio" Target="../media/CHIMES.WAV"/><Relationship Id="rId27" Type="http://schemas.openxmlformats.org/officeDocument/2006/relationships/audio" Target="../media/LASER.WAV"/><Relationship Id="rId28" Type="http://schemas.openxmlformats.org/officeDocument/2006/relationships/audio" Target="../media/CHIMES.WAV"/><Relationship Id="rId29" Type="http://schemas.openxmlformats.org/officeDocument/2006/relationships/audio" Target="../media/LASER.WAV"/><Relationship Id="rId30" Type="http://schemas.openxmlformats.org/officeDocument/2006/relationships/audio" Target="../media/caralarmoff.wav"/><Relationship Id="rId31" Type="http://schemas.openxmlformats.org/officeDocument/2006/relationships/audio" Target="../media/CHIMES.WAV"/><Relationship Id="rId32" Type="http://schemas.openxmlformats.org/officeDocument/2006/relationships/audio" Target="../media/LASER.WAV"/><Relationship Id="rId33" Type="http://schemas.openxmlformats.org/officeDocument/2006/relationships/audio" Target="../media/CHIMES.WAV"/><Relationship Id="rId34" Type="http://schemas.openxmlformats.org/officeDocument/2006/relationships/audio" Target="../media/LASER.WAV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audio" Target="../media/CASHREG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CHIMES.WAV"/><Relationship Id="rId17" Type="http://schemas.openxmlformats.org/officeDocument/2006/relationships/audio" Target="../media/LASER.WAV"/><Relationship Id="rId18" Type="http://schemas.openxmlformats.org/officeDocument/2006/relationships/audio" Target="../media/CHIMES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752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.  - 4 and -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raph the numbers on a number line. Then write two inequalities that compare the two numb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28600" y="26668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l    l    l    l    l    l    l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819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-7   -6  -5  -4   -3   -2  -1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3352680"/>
          <a:ext cx="23799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2379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38080" y="4191120"/>
          <a:ext cx="23799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2379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24280" y="1752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.  - 2.3 and - 2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6668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     l            l     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819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       -2           -1 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98880" y="3352680"/>
          <a:ext cx="32515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98880" y="3352680"/>
                    <a:ext cx="3251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98880" y="4191120"/>
          <a:ext cx="32515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98880" y="4191120"/>
                    <a:ext cx="3251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752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3.  5 and -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8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raph the numbers on a number line. Then write two inequalities that compare the two numb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8600" y="2666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  -6     -4     -2      0      2      4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9920" y="3352680"/>
          <a:ext cx="1914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3352680"/>
                    <a:ext cx="1914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069920" y="4191120"/>
          <a:ext cx="19144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9920" y="4191120"/>
                    <a:ext cx="1914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2193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.  2, -3, -2.5, 4.5, -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6668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438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819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    -3     -2     -1      0      1      2       3 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25146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8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the numbers in increasing order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8160" y="175248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rst think of their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3526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920" y="3352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, -2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7120" y="3352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, -1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6960" y="3352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,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5400" y="3352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, 4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20040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2971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3526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        -2            -1               0  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0481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0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the numbers in increasing order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069920" y="228600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rst think of their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90720" y="1066680"/>
          <a:ext cx="457200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45720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676520" y="4343400"/>
          <a:ext cx="74916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43400"/>
                    <a:ext cx="7491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286000" y="3962520"/>
          <a:ext cx="133200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962520"/>
                    <a:ext cx="133200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505320" y="3962520"/>
          <a:ext cx="1331640" cy="13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962520"/>
                    <a:ext cx="13316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724280" y="3962520"/>
          <a:ext cx="92736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962520"/>
                    <a:ext cx="92736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673600" y="4338720"/>
          <a:ext cx="70488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73600" y="4338720"/>
                    <a:ext cx="704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2680" y="28954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ppo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2438280"/>
          <a:ext cx="15238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15238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143000" y="3505320"/>
          <a:ext cx="704880" cy="52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70488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0" y="609480"/>
            <a:ext cx="9144000" cy="1797120"/>
            <a:chOff x="0" y="609480"/>
            <a:chExt cx="9144000" cy="1797120"/>
          </a:xfrm>
        </p:grpSpPr>
        <p:sp>
          <p:nvSpPr>
            <p:cNvPr id="130" name=""/>
            <p:cNvSpPr/>
            <p:nvPr/>
          </p:nvSpPr>
          <p:spPr>
            <a:xfrm>
              <a:off x="0" y="60948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d the opposite of the number. Then find its absolute val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1066680"/>
              <a:ext cx="883908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Opposit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wo numbers that are the same distance from the origin but on opposite sid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Absolute val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distance from the orig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31120" y="3962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bsolut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4495680"/>
          <a:ext cx="70488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95680"/>
                    <a:ext cx="7048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354480" y="28954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ppo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49520" y="2438280"/>
          <a:ext cx="1176480" cy="45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9520" y="2438280"/>
                    <a:ext cx="11764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14640" y="3505320"/>
          <a:ext cx="1105200" cy="52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14640" y="3505320"/>
                    <a:ext cx="11052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202920" y="3962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bsolut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143240" y="4495680"/>
          <a:ext cx="800280" cy="5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3240" y="4495680"/>
                    <a:ext cx="800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49960" y="28954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ppo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326280" y="2438280"/>
          <a:ext cx="1214280" cy="45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2438280"/>
                    <a:ext cx="1214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165800" y="3505320"/>
          <a:ext cx="393840" cy="525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5800" y="3505320"/>
                    <a:ext cx="39384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098400" y="3962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bsolut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162920" y="4495680"/>
          <a:ext cx="395280" cy="525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62920" y="4495680"/>
                    <a:ext cx="395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9200" y="388620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4419720"/>
          <a:ext cx="2036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2036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0" y="609480"/>
            <a:ext cx="9144000" cy="1924560"/>
            <a:chOff x="0" y="609480"/>
            <a:chExt cx="9144000" cy="1924560"/>
          </a:xfrm>
        </p:grpSpPr>
        <p:sp>
          <p:nvSpPr>
            <p:cNvPr id="156" name=""/>
            <p:cNvSpPr/>
            <p:nvPr/>
          </p:nvSpPr>
          <p:spPr>
            <a:xfrm>
              <a:off x="0" y="60948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peed and the velocity of the object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1066680"/>
              <a:ext cx="8839080" cy="14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pee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positive form of the rat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Velocit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indicates speed and direction, can be positive or negativ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15840" y="495288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5410080"/>
          <a:ext cx="2347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410080"/>
                    <a:ext cx="2347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946120" y="388620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257800" y="4343400"/>
          <a:ext cx="275436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343400"/>
                    <a:ext cx="2754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243828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9. A duck hawk descends at 150 miles per hour when striking it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43828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0. A balloon descends at 17 feet per second when la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8720" y="495288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105520" y="5410080"/>
          <a:ext cx="3108240" cy="70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5410080"/>
                    <a:ext cx="31082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3-08-25T12:47:30Z</dcterms:modified>
  <cp:revision>35</cp:revision>
  <dc:subject/>
  <dc:title>No Slide Title</dc:title>
</cp:coreProperties>
</file>